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2FC-E2D6-4C9E-820A-AC7A90F4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B3A-B18B-434B-9471-6A33BDB7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BE9-990A-4427-B6C5-9B1558B7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FBD-A4C5-4676-9CF9-4101FA41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9BA3-DC9E-45CB-82D2-E1E7C6A5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C92D-5EF6-4DF1-A7A8-07700F32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224F-3F6D-4822-8388-C3E44375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2189-5151-4176-B154-B39C0044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165E-771E-4067-8FAA-2EE32575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57A9-6FAA-4142-B5D9-E6F9ADD9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7BBD-7EF7-4197-9496-2F21852D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B35-E35A-4FA0-83CF-8A87E466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B19B-6B00-4222-9FE5-AD6098BD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B4F9-FA23-4B4C-AAC4-C2312F1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345C-E475-49C9-B5D3-7FA13478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C3C9-E0D9-40D8-B4B2-62EFF1C3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D8AD-E0ED-4709-869F-9B4BDBFF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7DE-0AB0-4B50-B225-4B02E8E1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910-D082-40BE-812A-0EFCE850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A62-B791-4DC7-A19D-5DA2FAB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991-A660-4963-A14D-DAA5F715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BDC-C50E-41A0-8E4E-D5B62FF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412-D95B-4296-A153-7B40EDC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268-0A5B-485F-A03C-823CBB3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30FE-AEDB-4B14-81C4-F27A2D5917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9B3D-669E-42B0-941E-AD927C3A8C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IC EXPRESSIONS and EQU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</a:t>
            </a:r>
            <a:r>
              <a:rPr b="0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GAME TIME!!! 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ttp://www.math-play.com/Algebraic-Expressions-Millionaire/algebraic-expressions-millionaire.htm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kim.nelson Nelson</cp:lastModifiedBy>
  <dcterms:modified xsi:type="dcterms:W3CDTF">2011-12-10T15:42:46Z</dcterms:modified>
  <cp:revision>6</cp:revision>
  <dc:subject/>
  <dc:title>Algebra I</dc:title>
</cp:coreProperties>
</file>